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A8FB-9D81-4686-BEDA-634BFDD92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1E61-1A41-4E7E-B3F3-93FA23B3071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A9BC-6017-432B-8A2D-54F6901B4F3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8651-812F-43F9-AE67-F0C98E6E85B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2ED6-ED68-48B3-A485-00A05C2F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984-63A1-4CD7-83E4-C6147B5B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835-03B1-41AC-9386-BFAE2EC1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E03-DFA6-4CF1-AAF8-46114D90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72FB-53D1-41BA-A97F-2C841E39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6547-171F-41AC-8950-D2C47262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5123-BD53-43F3-9288-109D09C0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8399-4802-4E94-9583-64C00197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94EB-2608-4DA6-B9D5-0386FFF6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D391-4A8C-4092-B28F-3B4A27DD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83FD-B1FD-4BC0-9CA9-5C2BE495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C5E5-B55B-4BE5-9FFB-3AE107CA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2BEF-C9F4-4C3B-9B46-89BF7F31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FF50-5E9C-4F78-A182-15534CCF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AE07-BD7D-4671-A2BF-9BE6CACE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3E70-343E-4A28-9893-52EA7D52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DE4B-BAC6-43D1-A3D6-7B9E86FF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EF8-712A-4FBD-B567-AB5B7C33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C34-3E23-4799-B205-B3005C11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43A-B90A-42C0-9378-F84EBB12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D5D-CFE9-46FC-A7E3-E42372CE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149B-0CEC-4B8A-BB08-6F24C511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12C-7D7C-4938-9AC0-FEAFD2AB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1D1-5993-4E33-9FCB-E0FAC237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DBC1-299D-4324-B1AA-B2CC18365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B320-977F-4A91-B0BE-C1EBDEA0CB93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ssessing Texts to Plan and Differentiate Instru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ad Common Core Standards materials in relation to this task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3" name="Picture 3" descr="Screen shot 2012-09-30 at 12.35.05 PM.png"/>
          <p:cNvPicPr/>
          <p:nvPr/>
        </p:nvPicPr>
        <p:blipFill>
          <a:blip r:embed="rId2"/>
          <a:stretch/>
        </p:blipFill>
        <p:spPr>
          <a:xfrm>
            <a:off x="990720" y="3200400"/>
            <a:ext cx="67053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Synthesize key ideas about </a:t>
            </a: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narrative and expository text structures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Textbook, Karen Wixson, and Barbara Moss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See a model of explicit instruction around expository text (I Do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Practice planning explicit instruction around expository text (We Do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Connect with more practice and application of ideas to your group’s text (You Do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urn and Tal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are th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difference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tween narrative and expository texts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ich texts ar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ore challenging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o readers and why?  Use evidence from your readings to support your reasoning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 this context, what do you think is the meaning of the phrase “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fourth grade slump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” 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How might we counteract the fourth grade slump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Exposure to more informational texts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(Wixson)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Increases vocab, comprehension, motivation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Builds knowledge of expository text structure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Improves reading, writing, content knowledge and home-school literacy connection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Exposure and explicit instruction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(Moss)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Model and practice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retelling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 as precursor to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synthesis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Attend to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text structure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,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signal words,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relationships between idea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Take advantage of enthusiasm and link to real world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rrative Texts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(tell a story) …</a:t>
            </a:r>
            <a:br>
              <a:rPr sz="2400"/>
            </a:b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(characters confront problems &gt; which sets up a plot)</a:t>
            </a:r>
            <a:endParaRPr b="0" lang="en-US" sz="2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etting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en and where does the story take plac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racter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o is the story about? Who wants something?  By the end, who changes the most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lot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s the problem? What happened? Why? How was the problem solved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heme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s the text really about? What’s the universal messag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oint of view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o is telling the story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tylistic Elements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are words used in special ways (e.g., fig. lang, mood, humor, iron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ository texts (to explain, inform, or persuade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onfiction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accurate)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Vs Informationa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blends non-fiction with some narrative element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Expositional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= “explanatory” writing with common thinking patterns &gt; which pattern(s) does the author use to make his argument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are the common expository text patterns?  What signal words are associated with each pattern? 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ository Text Patter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22860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mpare/Contras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ause/Effec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escription/Explan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quenc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oblem-Solu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588920" y="2357280"/>
            <a:ext cx="338400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oth, in contrast, while.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587480" y="2971800"/>
            <a:ext cx="325008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, therefore; if/then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589280" y="3805200"/>
            <a:ext cx="322884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or example; details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592160" y="4572000"/>
            <a:ext cx="392508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irst, second, next, finally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590720" y="5253120"/>
            <a:ext cx="409284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blem, question, answer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10" name="Straight Arrow Connector 11"/>
          <p:cNvCxnSpPr>
            <a:endCxn id="105" idx="1"/>
          </p:cNvCxnSpPr>
          <p:nvPr/>
        </p:nvCxnSpPr>
        <p:spPr>
          <a:xfrm flipV="1">
            <a:off x="4191120" y="2588400"/>
            <a:ext cx="381600" cy="252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1" name="Straight Arrow Connector 12"/>
          <p:cNvCxnSpPr>
            <a:endCxn id="106" idx="1"/>
          </p:cNvCxnSpPr>
          <p:nvPr/>
        </p:nvCxnSpPr>
        <p:spPr>
          <a:xfrm>
            <a:off x="3428640" y="3201480"/>
            <a:ext cx="1143720" cy="108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2" name="Straight Arrow Connector 14"/>
          <p:cNvCxnSpPr/>
          <p:nvPr/>
        </p:nvCxnSpPr>
        <p:spPr>
          <a:xfrm flipV="1">
            <a:off x="3124080" y="4037760"/>
            <a:ext cx="1372320" cy="252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3" name="Straight Arrow Connector 16"/>
          <p:cNvCxnSpPr/>
          <p:nvPr/>
        </p:nvCxnSpPr>
        <p:spPr>
          <a:xfrm flipV="1">
            <a:off x="2895120" y="4876560"/>
            <a:ext cx="1600920" cy="216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4" name="Straight Arrow Connector 18"/>
          <p:cNvCxnSpPr/>
          <p:nvPr/>
        </p:nvCxnSpPr>
        <p:spPr>
          <a:xfrm flipV="1">
            <a:off x="4114800" y="5486040"/>
            <a:ext cx="381600" cy="216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Modeling Explicit Instruction of Expository Text Comprehension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6" name="Picture 3" descr="Screen shot 2012-09-30 at 11.22.13 AM.png"/>
          <p:cNvPicPr/>
          <p:nvPr/>
        </p:nvPicPr>
        <p:blipFill>
          <a:blip r:embed="rId1"/>
          <a:stretch/>
        </p:blipFill>
        <p:spPr>
          <a:xfrm>
            <a:off x="533520" y="2133720"/>
            <a:ext cx="3043080" cy="38862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3764880" y="1905120"/>
            <a:ext cx="49068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an you imagine digging a hole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 your backyard to plant some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lowers and, to your surprise,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you uncover treasures from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re than 1,000 years ago?? </a:t>
            </a:r>
            <a:br>
              <a:rPr sz="2400"/>
            </a:b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would you do?  Would you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tell anyone?  Why or why not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Let’s read The First Discovery to find out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happened when a farmer named 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Enzecchetta digs out a well in southern 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taly to discover something unbelievable!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Use what you’ve learned about narrative and expository text features AND how to scaffold understanding of challenging text to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ocate &amp; note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llenging feature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/or content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pose an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nstructional practice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at could be used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explicitly teach about expository text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ile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building comprehension and motivation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o read further at each of these challenging poin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dentify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hen in the teaching cycle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you would integrate this practice (before, during, and/or after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0" name="Picture 3" descr="Screen shot 2012-09-30 at 11.22.13 AM.png"/>
          <p:cNvPicPr/>
          <p:nvPr/>
        </p:nvPicPr>
        <p:blipFill>
          <a:blip r:embed="rId3"/>
          <a:stretch/>
        </p:blipFill>
        <p:spPr>
          <a:xfrm>
            <a:off x="7467480" y="685800"/>
            <a:ext cx="1373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4:24:04Z</dcterms:created>
  <dc:creator>Julie Coiro</dc:creator>
  <dc:description/>
  <dc:language>en-US</dc:language>
  <cp:lastModifiedBy>Julie Coiro</cp:lastModifiedBy>
  <dcterms:modified xsi:type="dcterms:W3CDTF">2013-09-29T21:18:39Z</dcterms:modified>
  <cp:revision>210</cp:revision>
  <dc:subject/>
  <dc:title>Metacognitive Strategy Instruction to Enhance Reading Comprehension</dc:title>
</cp:coreProperties>
</file>